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22A2-EFF6-4E35-B849-646F9579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E1E5-015D-40CE-878B-BB914D33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691-48DC-4FAE-ACA9-220A0DB8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AC36-FA21-4518-BB7F-6F97A016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2BD-FDE0-4712-A31E-D043CDDB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5BB8-886C-47C8-8915-BD070AC9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9C90-D855-4032-BB6B-9C7AD26D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AB18-62DA-4AEF-BD2F-F2867C62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74C0-65BA-44CD-907E-F9096A21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8AA-3C71-4922-9DEC-10F6DBEF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D28-82BE-4BD2-814F-83EC6BCC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4D7F-9AE6-42F2-B736-B5DA8738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878E-4FDA-4EC3-AF05-F86BD4B1D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28600" y="228600"/>
            <a:ext cx="83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  <a:ea typeface="Arial"/>
              </a:rPr>
              <a:t>Initi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809880" y="3657600"/>
            <a:ext cx="18795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5"/>
          <p:cNvSpPr/>
          <p:nvPr/>
        </p:nvSpPr>
        <p:spPr>
          <a:xfrm>
            <a:off x="3809880" y="3276720"/>
            <a:ext cx="1997280" cy="169056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733920" y="1523880"/>
            <a:ext cx="2073240" cy="99864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7"/>
          <p:cNvSpPr/>
          <p:nvPr/>
        </p:nvSpPr>
        <p:spPr>
          <a:xfrm>
            <a:off x="6629400" y="2286000"/>
            <a:ext cx="2073240" cy="99864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 flipV="1">
            <a:off x="4800600" y="2514600"/>
            <a:ext cx="0" cy="730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 flipV="1">
            <a:off x="5562720" y="3048120"/>
            <a:ext cx="1190520" cy="4982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7086600" y="2590920"/>
            <a:ext cx="1306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6705720" y="4114800"/>
            <a:ext cx="2151000" cy="96048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5791320" y="4191120"/>
            <a:ext cx="998280" cy="1918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6"/>
          <p:cNvSpPr/>
          <p:nvPr/>
        </p:nvSpPr>
        <p:spPr>
          <a:xfrm>
            <a:off x="3733920" y="5562720"/>
            <a:ext cx="2073240" cy="99828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>
            <a:off x="4800600" y="4952880"/>
            <a:ext cx="0" cy="6145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9"/>
          <p:cNvSpPr/>
          <p:nvPr/>
        </p:nvSpPr>
        <p:spPr>
          <a:xfrm>
            <a:off x="609480" y="4419720"/>
            <a:ext cx="2303640" cy="115236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0"/>
          <p:cNvSpPr/>
          <p:nvPr/>
        </p:nvSpPr>
        <p:spPr>
          <a:xfrm flipH="1">
            <a:off x="2819160" y="4572000"/>
            <a:ext cx="1152360" cy="2300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22"/>
          <p:cNvSpPr/>
          <p:nvPr/>
        </p:nvSpPr>
        <p:spPr>
          <a:xfrm>
            <a:off x="1143000" y="2590920"/>
            <a:ext cx="1766880" cy="96048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3"/>
          <p:cNvSpPr/>
          <p:nvPr/>
        </p:nvSpPr>
        <p:spPr>
          <a:xfrm flipH="1" flipV="1">
            <a:off x="2666880" y="3428640"/>
            <a:ext cx="1190880" cy="4222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6019920" y="6491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5:51:15Z</dcterms:created>
  <dc:creator>Ann Johnson</dc:creator>
  <dc:description/>
  <dc:language>en-US</dc:language>
  <cp:lastModifiedBy>Ann</cp:lastModifiedBy>
  <dcterms:modified xsi:type="dcterms:W3CDTF">2009-07-20T12:45:34Z</dcterms:modified>
  <cp:revision>5</cp:revision>
  <dc:subject/>
  <dc:title>Slide 1</dc:title>
</cp:coreProperties>
</file>